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634-3935-44ED-A4A0-52F161A5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4CE-A7D9-4637-AD18-4D4EFB42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ABF-3EA0-42C2-B735-BB50C38B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635-10A7-4F98-9DA2-53904A24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7F3-F1A4-44ED-99CD-51FFF2CB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478-F5C7-4C16-8007-32B08D70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A59-E828-41B7-A718-313588E1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E35-4BB4-497C-99BA-6C851E11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1C7-18A1-4E47-9291-10C2FE3C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39EC-F4C5-4212-8FEC-E781E93B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B5B3-2585-4E73-9D9A-69E73B15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441-BE7B-4880-8671-92DFBC65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45F0-AC77-459E-987F-7066E0DBE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ohfw.nic.in/NRHM/Documents" TargetMode="External"/><Relationship Id="rId2" Type="http://schemas.openxmlformats.org/officeDocument/2006/relationships/hyperlink" Target="http://www.maha-arogya.gov.i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ar on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and Sanitation Committ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sion under NR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b Sekhar Dat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.02.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ance of bank ac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ed revolving fund – granted in install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on the joint account holders – states to dec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 may be – Sarpanch/President of VHSC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HA/ANM/AW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etails and account register maintenance by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to decide (ASHA/VHS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 may be - ASHA/ANM/AW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vision and monitoring of the expenditure and records b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M/MPW/Gram Panchay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intain updated Household Survey data to enable need based interven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of details of activities undertaken, expenditure incurred etc. will be maintained for public scrutin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ically reviewed by the ANM/Sarpan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level Panchayat Samiti will review functioning and progress of activities of VHS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trict Mission through members/block facilitators elicit information on the functioning of VHS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 base may be maintained on VHS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Role of PRI in the success of the NRHM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 are seen as critical to the Planning, Implementation, and Monitoring of the NRH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to NRHM success 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ectoral converg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Community ownership steered through village level health committees at the level of the Gram Panchayat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Well functioning public sector health system with support  from the private sector. 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decentr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infrastructure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based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use of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 of Ind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Rural Health Mission (2005-12), Mission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 of India. National Rural Health Miss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ly village health nutrition day, MOHFW, GO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mohfw.nic.in/NRHM/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maha-arogya.gov.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Thanks t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ct Health Office, Ward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Arun Am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ct Tuberculosis Officer and DHO In-charge, Ward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Dha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ct Training Officer, Ward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ed thrust on PRI under NR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tion of VHSC – a targeted inter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s an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ance of bank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ed Thrust on PRIs under NR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HM framework revolves around activation of PRIs in the rural 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nts of health take front s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, environmental sanitation and nutrition identified as vital components for better h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e starts from the village level and flows 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step being merger of Panchayat Raj Village health committees and water and sanitation committe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tion of VHSC – a targeted inter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no. of members: increased scope of 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HA – an institution in itself, most ambitious intervention under NRH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panch, Secretary, AWW, ANM, ASHA, teachers, village members, CBOs, SHGs are members, with due representation from each hamlet, community and weaker se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 female members (SC/ST/OBC grou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% from NGO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s have a huge task of building capacity of these Committee memb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o empower them to adapt to their new role: monitoring of activities, evaluate planning process and maintenance of accou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hand holding is important ? NGOs to come into pi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planning process to emerge through community development proces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s and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hold survey: maintain rec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l health repo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village in the Gram Sab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all members of health support team and work as a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pl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detaile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ory Rapid Assess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ASHAs and AWWs to collec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and supervise ASHAs and AWWs to carry out all R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 village health nutrition days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H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death*, birth and marriage regi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s and responsibilities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clean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for environmental sanitation – organize public health activities like cleanliness drives, sanitation drives, school health activities, health and nutritio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Fu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accounts – of untied funds under NR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rage funds from other 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s of the Committ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vener will sign the attendance registers of the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Ws, Mid-Day meal Sanchalak, MPWs, and AN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Ws and ANMs to submit a bi-monthly village repor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committee along with the plan for next two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Committee would decide format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 of the bi-monthly repo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ittee will receive funds of Rs 10,000 per year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und may be used as per the discretion of the VH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yardsticks for monitoring at the villa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HM indicators translated into Village health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for monitoring at the villa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Regi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of the A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Calend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ant and Maternal death au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dialogue (Jan Samb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4:52:39Z</dcterms:created>
  <dc:creator>Dr. Shib Sekhar</dc:creator>
  <dc:description/>
  <dc:language>en-US</dc:language>
  <cp:lastModifiedBy>ShibSekhar</cp:lastModifiedBy>
  <dcterms:modified xsi:type="dcterms:W3CDTF">2008-02-06T15:13:25Z</dcterms:modified>
  <cp:revision>26</cp:revision>
  <dc:subject/>
  <dc:title>VHSC</dc:title>
</cp:coreProperties>
</file>